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0C6-E76F-46EF-BF92-BCEA190F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6EC0-A34A-4EC0-B426-90B4E730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BCE1-6729-4303-AA62-1220FC95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7858-6042-4411-98E7-B1FDEDC5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9BF2-4F79-4307-9150-C3B6405C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740F-BA2B-452D-89BB-5A36C8E1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C82A-631A-407F-9E74-8D68B924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11C5-1EF1-4393-8F7B-EBFE7C1D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59B4-99EB-4D3F-B858-5D64725F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C9D2-6385-4E80-95B0-0381FE01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C9E1-80EF-4F63-B3B9-67784C40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FF4-9C83-4F37-9973-A7980B96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F402-1866-4059-9162-7B49BB3D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0467-E76C-4230-914F-630286A6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F87E-EBE2-4CFF-B97A-89654844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608B-D41B-425B-97F4-23EED1B5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F170-3AF3-43DF-80DE-330B7CB8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EF155-B681-4ECD-A363-E0002CB6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12D8C-7CDA-40C8-9CA2-59DC850A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2E8D3-9855-4606-9CA8-CFF48785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C1950-52B9-4C18-9FB1-CCC5865F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D3B1B-CFED-4832-92B1-0EA59122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C88-0EBC-4CE2-A3C7-7D8A732E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F23A1-E974-44D5-B20C-B7447516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54348-44F4-4444-882C-F35D402B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E5DEA-5EDB-4DE6-922F-F53ED8F2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7D28A-D67B-4C3A-9870-479FBA0D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9CAE4-CFE9-485F-A012-9E6B9F69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13ACC-E271-4B28-BF2D-B3B6C7E7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EA16A-7CBF-43D3-B955-630797A9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25D38-3500-4526-9463-20938035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EF4B0-831C-4CEC-A676-FAD4C5B6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CD751-F5E3-4D38-89F0-00916D7C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06F-5706-4044-983B-430FAB3F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6D0A9-C2D0-4F65-8CAA-465C787D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FE35F-20A7-492A-BCA1-413CB0F9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EA88B-8150-42D5-9079-B6327B1F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BAC56-64B6-4E7D-AC30-24545CE9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3A8CD-E662-45D9-93BF-A206EB31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14A36-E022-4A06-BEBD-C7DBEA7D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BBBB2-85F8-40E6-B19E-5D4C4F8D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06613-6A8A-478F-A7FE-B9988042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B1017-783E-49BC-9796-58919D81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32C6E-858B-4EEB-A971-A78C3B8E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C32-6F00-4BD1-A63D-A359C1E6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3DDE0-D0D1-45AF-9A55-B39EF325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69C5A-6AA6-42AC-8570-5F5E13F6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87BAB-4A83-49C0-8A69-ABE57E75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B1867-6FF1-46BF-BA56-0BFB7C09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26427-53A1-4C81-B883-3D7ACE26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69BE5-C9B4-426B-8A61-2A51308F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1C663-C9F5-43FB-84A6-AE31021B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80A1D-400B-418F-A448-DF86884B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5B2C5-F123-4477-BCF0-485008F4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48E84-DF3A-424E-ACD4-AEFC4A09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212-ABCF-472D-BC76-D8ABD057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626C0-2615-4A43-A0DE-A2472814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F7E43-84BA-455B-B6EB-4ACAB140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A23DE-6CEB-4B2E-824B-30DA927E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DA46C-B630-44BE-B612-3342DD95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FD8F8-E109-431D-BBF2-0B6093C4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4C560-3E0D-4F9D-A241-BB69B5E4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19BE6-24BC-4A66-9078-B568C8FE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8BA88-5298-4A45-9C97-C240B61F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4AEEC-F2F9-4045-8B23-24A8FC2B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CC322-E4A2-427C-A389-B28DCCD7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442-3CFA-4627-AC72-97DFA551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7894D-F43A-44EC-BB47-E61A62DA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986E2-292C-425C-9C87-EDDB2B0A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41AB5-BFD1-422D-A02B-7DAF63C2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6D1EA-62CA-4A62-A0B9-66563B2F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63602-830A-4459-B8DB-373A8F79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CAA61-A87A-4E39-93EF-4C62BAFD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5FE6D-8E4F-4610-AFFE-3DC60FD1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42175-3CF4-4C97-BE8E-E0D7456C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817D9-9BFF-45C3-B133-8889F86E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61D95-13E7-450D-B287-3AB65BFF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445F-42EE-4424-BFBF-3FCC2DCE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602F8-6281-40B7-8FE2-F6CDCA22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D068C-5E15-49C8-91E1-6CCDBBE7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A3EB2-07EA-42C6-92C8-9D4A0E9E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7FBC4-E25C-48DF-AA65-DA831722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4ACD4-4570-4ECA-8193-3CCC5815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2962A-F299-437A-B5D3-119BDF42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4285D-0F28-4DCD-9F06-B77BC622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1E9F1-5832-4838-8FA7-6DE56106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731B2-E0CC-4CFC-B68F-68E7BD4A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7F556-9E5D-4D15-AA07-414CBA63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664A-B188-4B03-98FD-EEE1319A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A0E51-58D3-4F21-8990-C078CCDD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24E74-CA1E-47C9-A377-48A0CB74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4EC09-5D34-48D1-BF6C-D3B975D6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D7471-2AB3-4100-A79B-B8BC5552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BB33E-6255-4A8D-B7B4-952FFDC9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C6A72-FD48-4A86-A61A-6970A4F8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0C76B-17D8-45DB-AA51-12A97D9C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FA14-9842-4263-9781-C16FBB5954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CD59-F059-4A28-BBC5-C02B26A14C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0B42-E266-41F9-83A9-727E54312F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9909-6D60-4916-ABA8-AD12B97C74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B90F-685E-4BE1-84B5-F936932EE1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9E2A-4D69-41BA-A416-051BA4CE1E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24D2-187F-48E7-8490-A935BD06F1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2507-409F-49F7-A8A4-77E5F8099E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12.nysed.gov/specialed/publications/iepguidance.htm" TargetMode="External"/><Relationship Id="rId2" Type="http://schemas.openxmlformats.org/officeDocument/2006/relationships/hyperlink" Target="http://www.p12.nysed.gov/specialed/formsnotices/IEP/training/questions.htm" TargetMode="External"/><Relationship Id="rId3" Type="http://schemas.openxmlformats.org/officeDocument/2006/relationships/hyperlink" Target="http://www.p12.nysed.gov/specialed/formsnotices/IEP/memo-Jan10.htm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and Amendments to the Regulations of the Commissioner of Educat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da1f28"/>
                </a:solidFill>
                <a:latin typeface="Lucida Sans Unicode"/>
              </a:rPr>
              <a:t>Effective December  8, 2010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rcRect l="21430" t="0" r="21430" b="0"/>
          <a:stretch/>
        </p:blipFill>
        <p:spPr>
          <a:xfrm>
            <a:off x="304920" y="304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mmended Special Education Programs and Serv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2da2bf"/>
                </a:solidFill>
                <a:latin typeface="Lucida Sans Unicode"/>
              </a:rPr>
              <a:t>Supplementary Aids and Services / Program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2da2bf"/>
                </a:solidFill>
                <a:latin typeface="Lucida Sans Unicode"/>
              </a:rPr>
              <a:t>Modifications / Accommoda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:1 aide is here no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sultations are not here (in supports for school personnel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ravel training is not here (in Program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gn language interpreter is here no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mmended Special Education Programs and Serv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2da2bf"/>
                </a:solidFill>
                <a:latin typeface="Lucida Sans Unicode"/>
              </a:rPr>
              <a:t>Assistive Technology Devices and/or Servic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an be low tech (pencil grips, paper stabilizers, etc.) or high tech (voice activated computers, Dynavox, etc.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2da2bf"/>
                </a:solidFill>
                <a:latin typeface="Lucida Sans Unicode"/>
              </a:rPr>
              <a:t>Supports for School Personnel on Behalf of th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2da2bf"/>
                </a:solidFill>
                <a:latin typeface="Lucida Sans Unicode"/>
              </a:rPr>
              <a:t>Stud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elp for teachers to more effectively work with the stud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x. Consultation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06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Recommended Special Education Programs and Services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70c0"/>
                </a:solidFill>
                <a:latin typeface="Lucida Sans Unicode"/>
              </a:rPr>
              <a:t>(programs, related services, supplemental aids and services / program modifications / accommodations, assistive technology, supports for school personnel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101520" y="3429000"/>
          <a:ext cx="8839440" cy="2295360"/>
        </p:xfrm>
        <a:graphic>
          <a:graphicData uri="http://schemas.openxmlformats.org/drawingml/2006/table">
            <a:tbl>
              <a:tblPr/>
              <a:tblGrid>
                <a:gridCol w="1227240"/>
                <a:gridCol w="2373120"/>
                <a:gridCol w="1473480"/>
                <a:gridCol w="1473120"/>
                <a:gridCol w="1228680"/>
                <a:gridCol w="106380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ervice Delivery recommen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Begin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irect or Indir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ow often provi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ength of s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at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amp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: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x da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0 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source 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/7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cxnSp>
        <p:nvCxnSpPr>
          <p:cNvPr id="402" name="Straight Arrow Connector 5"/>
          <p:cNvCxnSpPr/>
          <p:nvPr/>
        </p:nvCxnSpPr>
        <p:spPr>
          <a:xfrm>
            <a:off x="457200" y="4722840"/>
            <a:ext cx="457920" cy="2160"/>
          </a:xfrm>
          <a:prstGeom prst="straightConnector1">
            <a:avLst/>
          </a:prstGeom>
          <a:ln w="54000">
            <a:solidFill>
              <a:srgbClr val="2da2bf"/>
            </a:solidFill>
            <a:miter/>
            <a:tailEnd len="med" type="triangle" w="med"/>
          </a:ln>
        </p:spPr>
      </p:cxnSp>
      <p:sp>
        <p:nvSpPr>
          <p:cNvPr id="403" name=""/>
          <p:cNvSpPr/>
          <p:nvPr/>
        </p:nvSpPr>
        <p:spPr>
          <a:xfrm>
            <a:off x="6934320" y="586728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nd date will still be used but not necessary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4806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12-Month Service and/or Progra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ograms and services are together he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218960"/>
            <a:ext cx="822960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esting Accommod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8" name=""/>
          <p:cNvGraphicFramePr/>
          <p:nvPr/>
        </p:nvGraphicFramePr>
        <p:xfrm>
          <a:off x="990720" y="1828800"/>
          <a:ext cx="8001000" cy="411624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esting Accommo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Implementation Recommend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pecific to the student’s disability and needs to be </a:t>
                      </a:r>
                      <a:r>
                        <a:rPr b="1" lang="en-US" sz="1800" spc="-1" strike="noStrike">
                          <a:solidFill>
                            <a:srgbClr val="2da2bf"/>
                          </a:solidFill>
                          <a:latin typeface="Lucida Sans Unicode"/>
                        </a:rPr>
                        <a:t>used consistentl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by the stud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est characteristics: describe the type, length, purpose of the test  upon which the use of testing accommodations is conditioned, if applic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dentify the amount of extended time, type of setting, etc., specific to the testing accommodations, if applic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tended 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lassroom testing should be started in the regular classroom and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.5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36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86440" indent="-483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Coordinated Set of Transition Activities (8</a:t>
            </a:r>
            <a:r>
              <a:rPr b="1" lang="en-US" sz="25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 grade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86440" indent="-483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Participation in State and District-wide Assessments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(this section will come before goals in order to determine if objectives / benchmarks are necessary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86440" indent="-483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Participation with Students Without Disabiliti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86440" indent="-483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Special Transportati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586440" indent="-483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Placement Recommendations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(e.g. Home Public School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286000" y="1295280"/>
            <a:ext cx="4648320" cy="42674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IEP Direct &amp; the New IEP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3198960" y="1828800"/>
            <a:ext cx="2746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l fields required in the New IEP must be entered in order to finalize; use the </a:t>
            </a:r>
            <a:r>
              <a:rPr b="1" lang="en-US" sz="2700" spc="-1" strike="noStrike">
                <a:solidFill>
                  <a:srgbClr val="44b9e8"/>
                </a:solidFill>
                <a:latin typeface="Lucida Sans Unicode"/>
              </a:rPr>
              <a:t>Validate Butt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1" lang="en-US" sz="2700" spc="-1" strike="noStrike">
                <a:solidFill>
                  <a:srgbClr val="da1f28"/>
                </a:solidFill>
                <a:latin typeface="Lucida Sans Unicode"/>
              </a:rPr>
              <a:t>Red Exclamation Mark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will be present in each section where data is missing (clicking the warning will indicate which fields are miss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inalization button has been moved to the top of the document details scre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rcRect l="0" t="14584" r="78910" b="65630"/>
          <a:stretch/>
        </p:blipFill>
        <p:spPr>
          <a:xfrm>
            <a:off x="6477120" y="533520"/>
            <a:ext cx="2057400" cy="144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 flipH="1" flipV="1">
            <a:off x="8001000" y="19810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Entering Test Information.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pen the student’s draft document and go to the Reports/Assessments Tab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rcRect l="72284" t="26535" r="8249" b="60340"/>
          <a:stretch/>
        </p:blipFill>
        <p:spPr>
          <a:xfrm>
            <a:off x="4191120" y="3505320"/>
            <a:ext cx="4267080" cy="21333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590920" y="2819520"/>
            <a:ext cx="1828800" cy="91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Entering Test Information.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ter information into </a:t>
            </a:r>
            <a:r>
              <a:rPr b="1" lang="en-US" sz="2700" spc="-1" strike="noStrike">
                <a:solidFill>
                  <a:srgbClr val="2da2bf"/>
                </a:solidFill>
                <a:latin typeface="Lucida Sans Unicode"/>
              </a:rPr>
              <a:t>Evaluations/Repor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ec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0160" indent="-438120"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aid by = distri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0160" indent="-438120"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 file = ye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rcRect l="2399" t="19791" r="57673" b="10420"/>
          <a:stretch/>
        </p:blipFill>
        <p:spPr>
          <a:xfrm>
            <a:off x="5029200" y="1371600"/>
            <a:ext cx="364176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2da2bf"/>
                </a:solidFill>
                <a:latin typeface="Lucida Sans Unicode"/>
              </a:rPr>
              <a:t>3 Major Amendments to the Commissioner’s Regul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inimum service delivery requirement for speech and language servic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stablishment of a variance provision for the maximum number of students receiving integrated co-teaching servic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inimum level of service requirement for instructional services to meet the individual language needs of students with autis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Entering Test Information.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ter information into </a:t>
            </a:r>
            <a:r>
              <a:rPr b="1" lang="en-US" sz="2700" spc="-1" strike="noStrike">
                <a:solidFill>
                  <a:srgbClr val="2da2bf"/>
                </a:solidFill>
                <a:latin typeface="Lucida Sans Unicode"/>
              </a:rPr>
              <a:t>State and Districtwide Assess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rcRect l="2344" t="29852" r="6250" b="38810"/>
          <a:stretch/>
        </p:blipFill>
        <p:spPr>
          <a:xfrm>
            <a:off x="228600" y="3276720"/>
            <a:ext cx="8915400" cy="19047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191120" y="3886200"/>
            <a:ext cx="4495680" cy="1600200"/>
          </a:xfrm>
          <a:prstGeom prst="ellipse">
            <a:avLst/>
          </a:prstGeom>
          <a:noFill/>
          <a:ln w="507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"/>
          <p:cNvSpPr/>
          <p:nvPr/>
        </p:nvSpPr>
        <p:spPr>
          <a:xfrm>
            <a:off x="3657600" y="2362320"/>
            <a:ext cx="1219320" cy="1600200"/>
          </a:xfrm>
          <a:prstGeom prst="line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457200" y="5105160"/>
            <a:ext cx="990720" cy="53316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"/>
          <p:cNvSpPr/>
          <p:nvPr/>
        </p:nvSpPr>
        <p:spPr>
          <a:xfrm>
            <a:off x="1447920" y="54100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not delete anything here!!!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Entering Test Information.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481040"/>
            <a:ext cx="609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ter information into </a:t>
            </a:r>
            <a:r>
              <a:rPr b="1" lang="en-US" sz="2700" spc="-1" strike="noStrike">
                <a:solidFill>
                  <a:srgbClr val="2da2bf"/>
                </a:solidFill>
                <a:latin typeface="Lucida Sans Unicode"/>
              </a:rPr>
              <a:t>Standardized Test Resul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30160" indent="-438120">
              <a:spcBef>
                <a:spcPts val="326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ducational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30320" indent="-399960">
              <a:spcBef>
                <a:spcPts val="349"/>
              </a:spcBef>
              <a:buClr>
                <a:srgbClr val="da1f28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Basic Reading Skil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30320" indent="-399960">
              <a:spcBef>
                <a:spcPts val="349"/>
              </a:spcBef>
              <a:buClr>
                <a:srgbClr val="da1f28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eading Comprehens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30320" indent="-399960">
              <a:spcBef>
                <a:spcPts val="349"/>
              </a:spcBef>
              <a:buClr>
                <a:srgbClr val="da1f28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Math Calculation Skil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30320" indent="-399960">
              <a:spcBef>
                <a:spcPts val="349"/>
              </a:spcBef>
              <a:buClr>
                <a:srgbClr val="da1f28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Math Reasoning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030320" indent="-399960">
              <a:spcBef>
                <a:spcPts val="349"/>
              </a:spcBef>
              <a:buClr>
                <a:srgbClr val="da1f28"/>
              </a:buClr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Written Express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rcRect l="1562" t="29168" r="53907" b="21878"/>
          <a:stretch/>
        </p:blipFill>
        <p:spPr>
          <a:xfrm>
            <a:off x="4876920" y="3048120"/>
            <a:ext cx="3809880" cy="31417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4572000" y="3962520"/>
            <a:ext cx="2590920" cy="1371600"/>
          </a:xfrm>
          <a:prstGeom prst="ellipse">
            <a:avLst/>
          </a:prstGeom>
          <a:noFill/>
          <a:ln w="5400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"/>
          <p:cNvSpPr/>
          <p:nvPr/>
        </p:nvSpPr>
        <p:spPr>
          <a:xfrm>
            <a:off x="4800600" y="2286000"/>
            <a:ext cx="304920" cy="685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3657600" y="487656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"/>
          <p:cNvSpPr/>
          <p:nvPr/>
        </p:nvSpPr>
        <p:spPr>
          <a:xfrm>
            <a:off x="1600200" y="495288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a2bf"/>
                </a:solidFill>
                <a:latin typeface="Arial"/>
              </a:rPr>
              <a:t>Enter Standard scores as Type 1 and percentiles as type 2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64646"/>
                </a:solidFill>
                <a:latin typeface="Lucida Sans Unicode"/>
              </a:rPr>
              <a:t>Present Level of Performance and Individual Need Section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should be able to stat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student’s unique needs that require the student’s educational program to be individualiz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at the student can and cannot do in each area of identified ne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strengths of the student are upon which you can buil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environmental, human, or material resources the student will need to enable him/her to benefit from educ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Goals and Objectives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a9cd0"/>
                </a:solidFill>
                <a:latin typeface="Lucida Sans Unicode"/>
              </a:rPr>
              <a:t>Evaluative Criteria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How well and over what period of time the student must perform a behavior in order to consider it m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a9cd0"/>
                </a:solidFill>
                <a:latin typeface="Lucida Sans Unicode"/>
              </a:rPr>
              <a:t>Evaluation procedures (Method)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-  An objective method used to measure progress and determine if a student has met the objective or benchma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a9cd0"/>
                </a:solidFill>
                <a:latin typeface="Lucida Sans Unicode"/>
              </a:rPr>
              <a:t>Evaluation Schedul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– The intervals of time by which evaluation procedures will be used to measure progres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(Not the date of mastery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Template / Guidelines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240" y="148104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iven (conditions, accommodations), student name will (do what – observable skill/behavior in functional term) (to what extent) (over what period of time) or (by when) as evaluated b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3733920" y="1481040"/>
          <a:ext cx="5257800" cy="4329360"/>
        </p:xfrm>
        <a:graphic>
          <a:graphicData uri="http://schemas.openxmlformats.org/drawingml/2006/table">
            <a:tbl>
              <a:tblPr/>
              <a:tblGrid>
                <a:gridCol w="1314360"/>
                <a:gridCol w="1504800"/>
                <a:gridCol w="1067040"/>
                <a:gridCol w="137160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easurable Go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2da2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nnual Go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de0e8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Given 6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Lucida Sans Unicode"/>
                        </a:rPr>
                        <a:t>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grade material, Mike will read orally at 80-100 words per minute with 95% accur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or 3 consecutive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 minu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eekl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Additional Resources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Guide to Quality Individualized Education Program Development and Implementatio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p12.nysed.gov/specialed/publications/iepguidance.htm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Questions and Answers on Individualized Education Program (IEP) Development, The State's Model IEP Form and Related Documents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http://www.p12.nysed.gov/specialed/formsnotices/IEP/training/questions.htm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tudent Information Summary and Individualized Education Program (IEP)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http://www.p12.nysed.gov/specialed/formsnotices/IEP/memo-Jan10.htm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grams / Related Services Not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nscript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udent Exit Summary will enable when a student reaches 1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sonnel Assign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1544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5791320" y="339084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mise is this is the order that the meeting should be conduc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esent levels of performance and individual needs (evaluations, reports, and result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Academic Achievement, Functional Performance, and Learning Characteristic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Social Develop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Physical Develop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Lucida Sans Unicode"/>
              </a:rPr>
              <a:t>Management Need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TextBox 5"/>
          <p:cNvSpPr/>
          <p:nvPr/>
        </p:nvSpPr>
        <p:spPr>
          <a:xfrm>
            <a:off x="6095880" y="3733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ll must include parent concern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Right Brace 6"/>
          <p:cNvSpPr/>
          <p:nvPr/>
        </p:nvSpPr>
        <p:spPr>
          <a:xfrm>
            <a:off x="5105520" y="3048120"/>
            <a:ext cx="761760" cy="1828800"/>
          </a:xfrm>
          <a:custGeom>
            <a:avLst/>
            <a:gdLst>
              <a:gd name="textAreaLeft" fmla="*/ 0 w 761760"/>
              <a:gd name="textAreaRight" fmla="*/ 275040 w 761760"/>
              <a:gd name="textAreaTop" fmla="*/ 19800 h 1828800"/>
              <a:gd name="textAreaBottom" fmla="*/ 18090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5"/>
                  <a:pt x="10800" y="750"/>
                </a:cubicBezTo>
                <a:lnTo>
                  <a:pt x="10800" y="10050"/>
                </a:lnTo>
                <a:cubicBezTo>
                  <a:pt x="10800" y="10425"/>
                  <a:pt x="16200" y="10800"/>
                  <a:pt x="21600" y="10800"/>
                </a:cubicBezTo>
                <a:cubicBezTo>
                  <a:pt x="16200" y="10800"/>
                  <a:pt x="10800" y="11175"/>
                  <a:pt x="10800" y="11550"/>
                </a:cubicBezTo>
                <a:lnTo>
                  <a:pt x="10800" y="20850"/>
                </a:lnTo>
                <a:cubicBezTo>
                  <a:pt x="10800" y="2122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ffect of student needs on involvement and progress in the general education curriculum or, for a preschool student, effect of student needs on participation in appropriate activit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udent needs relating to special factors (new section) with 5 se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havioral strateg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EP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lind / Visually Impai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mmunication need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ssistive technology (home?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asurable postsecondary goals – mandatory age 15 and ol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ducation / Trai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mploy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dependent Living Skills (when appropriat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ransition Need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068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asurable Annual Go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8" name=""/>
          <p:cNvGraphicFramePr/>
          <p:nvPr/>
        </p:nvGraphicFramePr>
        <p:xfrm>
          <a:off x="914400" y="2209680"/>
          <a:ext cx="7315200" cy="35211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Annual Go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5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asure to determine if the goal has been achie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ow progress will be measu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hen progress will be measu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xampl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0% success over 2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eacher devised tests or worksh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very 2 wee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cxnSp>
        <p:nvCxnSpPr>
          <p:cNvPr id="389" name="Straight Arrow Connector 5"/>
          <p:cNvCxnSpPr/>
          <p:nvPr/>
        </p:nvCxnSpPr>
        <p:spPr>
          <a:xfrm>
            <a:off x="1600200" y="3733920"/>
            <a:ext cx="838800" cy="2160"/>
          </a:xfrm>
          <a:prstGeom prst="straightConnector1">
            <a:avLst/>
          </a:prstGeom>
          <a:ln w="507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mmended Special Education Programs and Serv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2da2bf"/>
                </a:solidFill>
                <a:latin typeface="Lucida Sans Unicode"/>
              </a:rPr>
              <a:t>Program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sultant teacher servic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tegrated co-teaching services (can be class specific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source room progra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pecial clas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ravel trai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dapted physical educ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commended Special Education Programs and Servic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a2bf"/>
                </a:solidFill>
                <a:latin typeface="Lucida Sans Unicode"/>
              </a:rPr>
              <a:t>Related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peech / language therapy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udiology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terpreting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sychological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unseling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T / O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rientation and mobility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arent counseling and train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chool health servi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chool social work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4" name="TextBox 3"/>
          <p:cNvSpPr/>
          <p:nvPr/>
        </p:nvSpPr>
        <p:spPr>
          <a:xfrm>
            <a:off x="4648320" y="4800600"/>
            <a:ext cx="38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Lucida Sans Unicode"/>
              </a:rPr>
              <a:t>1:1 aide, consultation services, travel training, and sign language interpreter are no longer her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4:32:12Z</dcterms:created>
  <dc:creator>wsmith</dc:creator>
  <dc:description/>
  <dc:language>en-US</dc:language>
  <cp:lastModifiedBy>setup</cp:lastModifiedBy>
  <dcterms:modified xsi:type="dcterms:W3CDTF">2011-01-05T18:39:02Z</dcterms:modified>
  <cp:revision>25</cp:revision>
  <dc:subject/>
  <dc:title>The New IEP</dc:title>
</cp:coreProperties>
</file>